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projctor.wav" ContentType="audio/x-wav"/>
  <Override PartName="/ppt/media/image27.wmf" ContentType="image/x-wmf"/>
  <Override PartName="/ppt/media/image26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32.wmf" ContentType="image/x-wmf"/>
  <Override PartName="/ppt/media/image2.wmf" ContentType="image/x-wmf"/>
  <Override PartName="/ppt/media/image14.wmf" ContentType="image/x-wmf"/>
  <Override PartName="/ppt/media/LASER.WAV" ContentType="audio/x-wav"/>
  <Override PartName="/ppt/media/image10.wmf" ContentType="image/x-wmf"/>
  <Override PartName="/ppt/media/image47.wmf" ContentType="image/x-wmf"/>
  <Override PartName="/ppt/media/image48.wmf" ContentType="image/x-wmf"/>
  <Override PartName="/ppt/media/image11.wmf" ContentType="image/x-wmf"/>
  <Override PartName="/ppt/media/image12.wmf" ContentType="image/x-wmf"/>
  <Override PartName="/ppt/media/EXPLODE.WAV" ContentType="audio/x-wav"/>
  <Override PartName="/ppt/media/image53.wmf" ContentType="image/x-wmf"/>
  <Override PartName="/ppt/media/image22.wmf" ContentType="image/x-wmf"/>
  <Override PartName="/ppt/media/image59.wmf" ContentType="image/x-wmf"/>
  <Override PartName="/ppt/media/image57.wmf" ContentType="image/x-wmf"/>
  <Override PartName="/ppt/media/driveby.wav" ContentType="audio/x-wav"/>
  <Override PartName="/ppt/media/image20.wmf" ContentType="image/x-wmf"/>
  <Override PartName="/ppt/media/CAMERA.WAV" ContentType="audio/x-wav"/>
  <Override PartName="/ppt/media/image61.wmf" ContentType="image/x-wmf"/>
  <Override PartName="/ppt/media/image23.wmf" ContentType="image/x-wmf"/>
  <Override PartName="/ppt/media/image60.wmf" ContentType="image/x-wmf"/>
  <Override PartName="/ppt/media/image58.wmf" ContentType="image/x-wmf"/>
  <Override PartName="/ppt/media/image21.wmf" ContentType="image/x-wmf"/>
  <Override PartName="/ppt/media/image56.wmf" ContentType="image/x-wmf"/>
  <Override PartName="/ppt/media/image55.wmf" ContentType="image/x-wmf"/>
  <Override PartName="/ppt/media/drumroll.wav" ContentType="audio/x-wav"/>
  <Override PartName="/ppt/media/image62.wmf" ContentType="image/x-wmf"/>
  <Override PartName="/ppt/media/cashreg.wav" ContentType="audio/x-wav"/>
  <Override PartName="/ppt/media/gunshot.wav" ContentType="audio/x-wav"/>
  <Override PartName="/ppt/media/image25.wmf" ContentType="image/x-wmf"/>
  <Override PartName="/ppt/media/image54.wmf" ContentType="image/x-wmf"/>
  <Override PartName="/ppt/media/image34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glass.wav" ContentType="audio/x-wav"/>
  <Override PartName="/ppt/media/image36.wmf" ContentType="image/x-wmf"/>
  <Override PartName="/ppt/media/image18.wmf" ContentType="image/x-wmf"/>
  <Override PartName="/ppt/media/image6.wmf" ContentType="image/x-wmf"/>
  <Override PartName="/ppt/media/image49.wmf" ContentType="image/x-wmf"/>
  <Override PartName="/ppt/media/CHIMES.WAV" ContentType="audio/x-wav"/>
  <Override PartName="/ppt/media/image2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38.wmf" ContentType="image/x-wmf"/>
  <Override PartName="/ppt/media/image13.wmf" ContentType="image/x-wmf"/>
  <Override PartName="/ppt/media/image1.wmf" ContentType="image/x-wmf"/>
  <Override PartName="/ppt/media/image31.wmf" ContentType="image/x-wmf"/>
  <Override PartName="/ppt/media/image9.wmf" ContentType="image/x-wmf"/>
  <Override PartName="/ppt/media/image39.wmf" ContentType="image/x-wmf"/>
  <Override PartName="/ppt/media/image4.wmf" ContentType="image/x-wmf"/>
  <Override PartName="/ppt/media/image16.wmf" ContentType="image/x-wmf"/>
  <Override PartName="/ppt/media/WHOOSH.WAV" ContentType="audio/x-wav"/>
  <Override PartName="/ppt/media/image29.wmf" ContentType="image/x-wmf"/>
  <Override PartName="/ppt/media/image2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B399-1D2F-4C34-9425-0400D8F00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C12B-487B-42B8-A455-7B1D8140B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2CBE-1FE0-4745-8321-A7897FA4F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2EA3-9625-45E3-9C8D-7A5CE075B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3702-52EB-4247-8ECE-4F10DDB95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DFB4-00F5-4B7E-B7DD-89616405E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4092-636D-453E-9CB8-35F074E58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4E92-34EC-4411-B385-D39478354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BDCA-78CE-4014-B99E-3085CA4D2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1E6F-BFBD-47CE-A9F4-E343B9E9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AE4C-4410-4511-BD29-C149EA93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D527-28F7-4E7B-A3BB-F3765349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F4606-1A06-45BA-84BA-8BBC5621A4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9.wmf"/><Relationship Id="rId25" Type="http://schemas.openxmlformats.org/officeDocument/2006/relationships/audio" Target="../media/WHOOSH.WAV"/><Relationship Id="rId26" Type="http://schemas.openxmlformats.org/officeDocument/2006/relationships/audio" Target="../media/CHIMES.WAV"/><Relationship Id="rId27" Type="http://schemas.openxmlformats.org/officeDocument/2006/relationships/audio" Target="../media/CHIMES.WAV"/><Relationship Id="rId28" Type="http://schemas.openxmlformats.org/officeDocument/2006/relationships/audio" Target="../media/CHIMES.WAV"/><Relationship Id="rId29" Type="http://schemas.openxmlformats.org/officeDocument/2006/relationships/audio" Target="../media/EXPLODE.WAV"/><Relationship Id="rId30" Type="http://schemas.openxmlformats.org/officeDocument/2006/relationships/audio" Target="../media/projctor.wav"/><Relationship Id="rId31" Type="http://schemas.openxmlformats.org/officeDocument/2006/relationships/audio" Target="../media/projctor.wav"/><Relationship Id="rId32" Type="http://schemas.openxmlformats.org/officeDocument/2006/relationships/audio" Target="../media/projctor.wav"/><Relationship Id="rId33" Type="http://schemas.openxmlformats.org/officeDocument/2006/relationships/audio" Target="../media/EXPLODE.WAV"/><Relationship Id="rId34" Type="http://schemas.openxmlformats.org/officeDocument/2006/relationships/audio" Target="../media/driveby.wav"/><Relationship Id="rId35" Type="http://schemas.openxmlformats.org/officeDocument/2006/relationships/audio" Target="../media/driveby.wav"/><Relationship Id="rId36" Type="http://schemas.openxmlformats.org/officeDocument/2006/relationships/audio" Target="../media/EXPLODE.WAV"/><Relationship Id="rId37" Type="http://schemas.openxmlformats.org/officeDocument/2006/relationships/audio" Target="../media/EXPLODE.WAV"/><Relationship Id="rId38" Type="http://schemas.openxmlformats.org/officeDocument/2006/relationships/audio" Target="../media/LASER.WAV"/><Relationship Id="rId39" Type="http://schemas.openxmlformats.org/officeDocument/2006/relationships/audio" Target="../media/LASER.WAV"/><Relationship Id="rId40" Type="http://schemas.openxmlformats.org/officeDocument/2006/relationships/audio" Target="../media/LASER.WAV"/><Relationship Id="rId41" Type="http://schemas.openxmlformats.org/officeDocument/2006/relationships/audio" Target="../media/LASER.WAV"/><Relationship Id="rId42" Type="http://schemas.openxmlformats.org/officeDocument/2006/relationships/audio" Target="../media/driveby.wav"/><Relationship Id="rId43" Type="http://schemas.openxmlformats.org/officeDocument/2006/relationships/audio" Target="../media/EXPLODE.WAV"/><Relationship Id="rId44" Type="http://schemas.openxmlformats.org/officeDocument/2006/relationships/audio" Target="../media/EXPLODE.WAV"/><Relationship Id="rId45" Type="http://schemas.openxmlformats.org/officeDocument/2006/relationships/audio" Target="../media/EXPLODE.WAV"/><Relationship Id="rId46" Type="http://schemas.openxmlformats.org/officeDocument/2006/relationships/audio" Target="../media/EXPLODE.WAV"/><Relationship Id="rId4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2.wmf"/><Relationship Id="rId19" Type="http://schemas.openxmlformats.org/officeDocument/2006/relationships/audio" Target="../media/EXPLODE.WAV"/><Relationship Id="rId20" Type="http://schemas.openxmlformats.org/officeDocument/2006/relationships/audio" Target="../media/LASER.WAV"/><Relationship Id="rId21" Type="http://schemas.openxmlformats.org/officeDocument/2006/relationships/audio" Target="../media/LASER.WAV"/><Relationship Id="rId22" Type="http://schemas.openxmlformats.org/officeDocument/2006/relationships/audio" Target="../media/LASER.WAV"/><Relationship Id="rId23" Type="http://schemas.openxmlformats.org/officeDocument/2006/relationships/audio" Target="../media/LASER.WAV"/><Relationship Id="rId24" Type="http://schemas.openxmlformats.org/officeDocument/2006/relationships/audio" Target="../media/driveby.wav"/><Relationship Id="rId25" Type="http://schemas.openxmlformats.org/officeDocument/2006/relationships/audio" Target="../media/EXPLODE.WAV"/><Relationship Id="rId26" Type="http://schemas.openxmlformats.org/officeDocument/2006/relationships/audio" Target="../media/EXPLODE.WAV"/><Relationship Id="rId27" Type="http://schemas.openxmlformats.org/officeDocument/2006/relationships/audio" Target="../media/EXPLODE.WAV"/><Relationship Id="rId28" Type="http://schemas.openxmlformats.org/officeDocument/2006/relationships/audio" Target="../media/EXPLODE.WAV"/><Relationship Id="rId2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0.wmf"/><Relationship Id="rId17" Type="http://schemas.openxmlformats.org/officeDocument/2006/relationships/audio" Target="../media/EXPLODE.WAV"/><Relationship Id="rId18" Type="http://schemas.openxmlformats.org/officeDocument/2006/relationships/audio" Target="../media/projctor.wav"/><Relationship Id="rId19" Type="http://schemas.openxmlformats.org/officeDocument/2006/relationships/audio" Target="../media/projctor.wav"/><Relationship Id="rId20" Type="http://schemas.openxmlformats.org/officeDocument/2006/relationships/audio" Target="../media/projctor.wav"/><Relationship Id="rId21" Type="http://schemas.openxmlformats.org/officeDocument/2006/relationships/audio" Target="../media/EXPLODE.WAV"/><Relationship Id="rId22" Type="http://schemas.openxmlformats.org/officeDocument/2006/relationships/audio" Target="../media/EXPLODE.WAV"/><Relationship Id="rId23" Type="http://schemas.openxmlformats.org/officeDocument/2006/relationships/audio" Target="../media/driveby.wav"/><Relationship Id="rId24" Type="http://schemas.openxmlformats.org/officeDocument/2006/relationships/audio" Target="../media/driveby.wav"/><Relationship Id="rId25" Type="http://schemas.openxmlformats.org/officeDocument/2006/relationships/audio" Target="../media/EXPLODE.WAV"/><Relationship Id="rId26" Type="http://schemas.openxmlformats.org/officeDocument/2006/relationships/audio" Target="../media/LASER.WAV"/><Relationship Id="rId27" Type="http://schemas.openxmlformats.org/officeDocument/2006/relationships/audio" Target="../media/LASER.WAV"/><Relationship Id="rId28" Type="http://schemas.openxmlformats.org/officeDocument/2006/relationships/audio" Target="../media/driveby.wav"/><Relationship Id="rId29" Type="http://schemas.openxmlformats.org/officeDocument/2006/relationships/audio" Target="../media/EXPLODE.WAV"/><Relationship Id="rId30" Type="http://schemas.openxmlformats.org/officeDocument/2006/relationships/audio" Target="../media/EXPLODE.WAV"/><Relationship Id="rId3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0.wmf"/><Relationship Id="rId25" Type="http://schemas.openxmlformats.org/officeDocument/2006/relationships/audio" Target="../media/CHIMES.WAV"/><Relationship Id="rId26" Type="http://schemas.openxmlformats.org/officeDocument/2006/relationships/audio" Target="../media/EXPLODE.WAV"/><Relationship Id="rId27" Type="http://schemas.openxmlformats.org/officeDocument/2006/relationships/audio" Target="../media/glass.wav"/><Relationship Id="rId28" Type="http://schemas.openxmlformats.org/officeDocument/2006/relationships/audio" Target="../media/EXPLODE.WAV"/><Relationship Id="rId29" Type="http://schemas.openxmlformats.org/officeDocument/2006/relationships/audio" Target="../media/EXPLODE.WAV"/><Relationship Id="rId30" Type="http://schemas.openxmlformats.org/officeDocument/2006/relationships/audio" Target="../media/EXPLODE.WAV"/><Relationship Id="rId31" Type="http://schemas.openxmlformats.org/officeDocument/2006/relationships/audio" Target="../media/EXPLODE.WAV"/><Relationship Id="rId32" Type="http://schemas.openxmlformats.org/officeDocument/2006/relationships/audio" Target="../media/EXPLODE.WAV"/><Relationship Id="rId33" Type="http://schemas.openxmlformats.org/officeDocument/2006/relationships/audio" Target="../media/EXPLODE.WAV"/><Relationship Id="rId34" Type="http://schemas.openxmlformats.org/officeDocument/2006/relationships/audio" Target="../media/LASER.WAV"/><Relationship Id="rId35" Type="http://schemas.openxmlformats.org/officeDocument/2006/relationships/audio" Target="../media/LASER.WAV"/><Relationship Id="rId36" Type="http://schemas.openxmlformats.org/officeDocument/2006/relationships/audio" Target="../media/LASER.WAV"/><Relationship Id="rId37" Type="http://schemas.openxmlformats.org/officeDocument/2006/relationships/audio" Target="../media/LASER.WAV"/><Relationship Id="rId38" Type="http://schemas.openxmlformats.org/officeDocument/2006/relationships/audio" Target="../media/driveby.wav"/><Relationship Id="rId39" Type="http://schemas.openxmlformats.org/officeDocument/2006/relationships/audio" Target="../media/EXPLODE.WAV"/><Relationship Id="rId40" Type="http://schemas.openxmlformats.org/officeDocument/2006/relationships/audio" Target="../media/EXPLODE.WAV"/><Relationship Id="rId4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8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9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9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40.wmf"/><Relationship Id="rId31" Type="http://schemas.openxmlformats.org/officeDocument/2006/relationships/audio" Target="../media/EXPLODE.WAV"/><Relationship Id="rId32" Type="http://schemas.openxmlformats.org/officeDocument/2006/relationships/audio" Target="../media/glass.wav"/><Relationship Id="rId33" Type="http://schemas.openxmlformats.org/officeDocument/2006/relationships/audio" Target="../media/EXPLODE.WAV"/><Relationship Id="rId34" Type="http://schemas.openxmlformats.org/officeDocument/2006/relationships/audio" Target="../media/EXPLODE.WAV"/><Relationship Id="rId35" Type="http://schemas.openxmlformats.org/officeDocument/2006/relationships/audio" Target="../media/EXPLODE.WAV"/><Relationship Id="rId36" Type="http://schemas.openxmlformats.org/officeDocument/2006/relationships/audio" Target="../media/LASER.WAV"/><Relationship Id="rId37" Type="http://schemas.openxmlformats.org/officeDocument/2006/relationships/audio" Target="../media/LASER.WAV"/><Relationship Id="rId38" Type="http://schemas.openxmlformats.org/officeDocument/2006/relationships/audio" Target="../media/EXPLODE.WAV"/><Relationship Id="rId39" Type="http://schemas.openxmlformats.org/officeDocument/2006/relationships/audio" Target="../media/EXPLODE.WAV"/><Relationship Id="rId40" Type="http://schemas.openxmlformats.org/officeDocument/2006/relationships/audio" Target="../media/EXPLODE.WAV"/><Relationship Id="rId41" Type="http://schemas.openxmlformats.org/officeDocument/2006/relationships/audio" Target="../media/LASER.WAV"/><Relationship Id="rId42" Type="http://schemas.openxmlformats.org/officeDocument/2006/relationships/audio" Target="../media/LASER.WAV"/><Relationship Id="rId43" Type="http://schemas.openxmlformats.org/officeDocument/2006/relationships/audio" Target="../media/LASER.WAV"/><Relationship Id="rId44" Type="http://schemas.openxmlformats.org/officeDocument/2006/relationships/audio" Target="../media/LASER.WAV"/><Relationship Id="rId45" Type="http://schemas.openxmlformats.org/officeDocument/2006/relationships/audio" Target="../media/driveby.wav"/><Relationship Id="rId46" Type="http://schemas.openxmlformats.org/officeDocument/2006/relationships/audio" Target="../media/EXPLODE.WAV"/><Relationship Id="rId47" Type="http://schemas.openxmlformats.org/officeDocument/2006/relationships/audio" Target="../media/EXPLODE.WAV"/><Relationship Id="rId48" Type="http://schemas.openxmlformats.org/officeDocument/2006/relationships/audio" Target="../media/EXPLODE.WAV"/><Relationship Id="rId4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6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2.wmf"/><Relationship Id="rId29" Type="http://schemas.openxmlformats.org/officeDocument/2006/relationships/audio" Target="../media/EXPLODE.WAV"/><Relationship Id="rId30" Type="http://schemas.openxmlformats.org/officeDocument/2006/relationships/audio" Target="../media/glass.wav"/><Relationship Id="rId31" Type="http://schemas.openxmlformats.org/officeDocument/2006/relationships/audio" Target="../media/EXPLODE.WAV"/><Relationship Id="rId32" Type="http://schemas.openxmlformats.org/officeDocument/2006/relationships/audio" Target="../media/EXPLODE.WAV"/><Relationship Id="rId33" Type="http://schemas.openxmlformats.org/officeDocument/2006/relationships/audio" Target="../media/EXPLODE.WAV"/><Relationship Id="rId34" Type="http://schemas.openxmlformats.org/officeDocument/2006/relationships/audio" Target="../media/LASER.WAV"/><Relationship Id="rId35" Type="http://schemas.openxmlformats.org/officeDocument/2006/relationships/audio" Target="../media/LASER.WAV"/><Relationship Id="rId36" Type="http://schemas.openxmlformats.org/officeDocument/2006/relationships/audio" Target="../media/EXPLODE.WAV"/><Relationship Id="rId37" Type="http://schemas.openxmlformats.org/officeDocument/2006/relationships/audio" Target="../media/EXPLODE.WAV"/><Relationship Id="rId38" Type="http://schemas.openxmlformats.org/officeDocument/2006/relationships/audio" Target="../media/EXPLODE.WAV"/><Relationship Id="rId39" Type="http://schemas.openxmlformats.org/officeDocument/2006/relationships/audio" Target="../media/LASER.WAV"/><Relationship Id="rId40" Type="http://schemas.openxmlformats.org/officeDocument/2006/relationships/audio" Target="../media/LASER.WAV"/><Relationship Id="rId41" Type="http://schemas.openxmlformats.org/officeDocument/2006/relationships/audio" Target="../media/LASER.WAV"/><Relationship Id="rId42" Type="http://schemas.openxmlformats.org/officeDocument/2006/relationships/audio" Target="../media/LASER.WAV"/><Relationship Id="rId43" Type="http://schemas.openxmlformats.org/officeDocument/2006/relationships/audio" Target="../media/driveby.wav"/><Relationship Id="rId44" Type="http://schemas.openxmlformats.org/officeDocument/2006/relationships/audio" Target="../media/EXPLODE.WAV"/><Relationship Id="rId45" Type="http://schemas.openxmlformats.org/officeDocument/2006/relationships/audio" Target="../media/EXPLODE.WAV"/><Relationship Id="rId4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4.wmf"/><Relationship Id="rId25" Type="http://schemas.openxmlformats.org/officeDocument/2006/relationships/audio" Target="../media/gunshot.wav"/><Relationship Id="rId26" Type="http://schemas.openxmlformats.org/officeDocument/2006/relationships/audio" Target="../media/cashreg.wav"/><Relationship Id="rId27" Type="http://schemas.openxmlformats.org/officeDocument/2006/relationships/audio" Target="../media/drumroll.wav"/><Relationship Id="rId28" Type="http://schemas.openxmlformats.org/officeDocument/2006/relationships/audio" Target="../media/EXPLODE.WAV"/><Relationship Id="rId29" Type="http://schemas.openxmlformats.org/officeDocument/2006/relationships/audio" Target="../media/LASER.WAV"/><Relationship Id="rId30" Type="http://schemas.openxmlformats.org/officeDocument/2006/relationships/audio" Target="../media/LASER.WAV"/><Relationship Id="rId31" Type="http://schemas.openxmlformats.org/officeDocument/2006/relationships/audio" Target="../media/driveby.wav"/><Relationship Id="rId32" Type="http://schemas.openxmlformats.org/officeDocument/2006/relationships/audio" Target="../media/EXPLODE.WAV"/><Relationship Id="rId33" Type="http://schemas.openxmlformats.org/officeDocument/2006/relationships/audio" Target="../media/EXPLODE.WAV"/><Relationship Id="rId34" Type="http://schemas.openxmlformats.org/officeDocument/2006/relationships/audio" Target="../media/EXPLODE.WAV"/><Relationship Id="rId35" Type="http://schemas.openxmlformats.org/officeDocument/2006/relationships/audio" Target="../media/driveby.wav"/><Relationship Id="rId36" Type="http://schemas.openxmlformats.org/officeDocument/2006/relationships/audio" Target="../media/LASER.WAV"/><Relationship Id="rId37" Type="http://schemas.openxmlformats.org/officeDocument/2006/relationships/audio" Target="../media/driveby.wav"/><Relationship Id="rId38" Type="http://schemas.openxmlformats.org/officeDocument/2006/relationships/audio" Target="../media/LASER.WAV"/><Relationship Id="rId39" Type="http://schemas.openxmlformats.org/officeDocument/2006/relationships/audio" Target="../media/driveby.wav"/><Relationship Id="rId40" Type="http://schemas.openxmlformats.org/officeDocument/2006/relationships/audio" Target="../media/LASER.WAV"/><Relationship Id="rId41" Type="http://schemas.openxmlformats.org/officeDocument/2006/relationships/audio" Target="../media/EXPLODE.WAV"/><Relationship Id="rId42" Type="http://schemas.openxmlformats.org/officeDocument/2006/relationships/audio" Target="../media/EXPLODE.WAV"/><Relationship Id="rId43" Type="http://schemas.openxmlformats.org/officeDocument/2006/relationships/audio" Target="../media/EXPLODE.WAV"/><Relationship Id="rId4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2.wmf"/><Relationship Id="rId19" Type="http://schemas.openxmlformats.org/officeDocument/2006/relationships/audio" Target="../media/EXPLODE.WAV"/><Relationship Id="rId20" Type="http://schemas.openxmlformats.org/officeDocument/2006/relationships/audio" Target="../media/CAMERA.WAV"/><Relationship Id="rId21" Type="http://schemas.openxmlformats.org/officeDocument/2006/relationships/audio" Target="../media/CAMERA.WAV"/><Relationship Id="rId22" Type="http://schemas.openxmlformats.org/officeDocument/2006/relationships/audio" Target="../media/EXPLODE.WAV"/><Relationship Id="rId23" Type="http://schemas.openxmlformats.org/officeDocument/2006/relationships/audio" Target="../media/CAMERA.WAV"/><Relationship Id="rId24" Type="http://schemas.openxmlformats.org/officeDocument/2006/relationships/audio" Target="../media/CAMERA.WAV"/><Relationship Id="rId25" Type="http://schemas.openxmlformats.org/officeDocument/2006/relationships/audio" Target="../media/EXPLODE.WAV"/><Relationship Id="rId26" Type="http://schemas.openxmlformats.org/officeDocument/2006/relationships/audio" Target="../media/CAMERA.WAV"/><Relationship Id="rId27" Type="http://schemas.openxmlformats.org/officeDocument/2006/relationships/audio" Target="../media/CAMERA.WAV"/><Relationship Id="rId28" Type="http://schemas.openxmlformats.org/officeDocument/2006/relationships/audio" Target="../media/EXPLODE.WAV"/><Relationship Id="rId29" Type="http://schemas.openxmlformats.org/officeDocument/2006/relationships/audio" Target="../media/CAMERA.WAV"/><Relationship Id="rId30" Type="http://schemas.openxmlformats.org/officeDocument/2006/relationships/audio" Target="../media/CAMERA.WAV"/><Relationship Id="rId31" Type="http://schemas.openxmlformats.org/officeDocument/2006/relationships/audio" Target="../media/EXPLODE.WAV"/><Relationship Id="rId3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28600" y="838080"/>
            <a:ext cx="8686800" cy="1373760"/>
            <a:chOff x="228600" y="838080"/>
            <a:chExt cx="8686800" cy="1373760"/>
          </a:xfrm>
        </p:grpSpPr>
        <p:sp>
          <p:nvSpPr>
            <p:cNvPr id="43" name=""/>
            <p:cNvSpPr/>
            <p:nvPr/>
          </p:nvSpPr>
          <p:spPr>
            <a:xfrm>
              <a:off x="228600" y="838080"/>
              <a:ext cx="8686800" cy="137376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00"/>
                  </a:solidFill>
                  <a:latin typeface="Times New Roman"/>
                </a:rPr>
                <a:t>Standard Form of a Linear Equ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28600" y="1371600"/>
              <a:ext cx="868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" name=""/>
          <p:cNvSpPr/>
          <p:nvPr/>
        </p:nvSpPr>
        <p:spPr>
          <a:xfrm>
            <a:off x="0" y="22096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Write the equation in standard form with integer coeffici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2006640" y="2719440"/>
          <a:ext cx="4402080" cy="15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6640" y="2719440"/>
                    <a:ext cx="4402080" cy="15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2544840" y="3294000"/>
                <a:ext cx="73188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(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9" name=""/>
          <p:cNvGraphicFramePr/>
          <p:nvPr/>
        </p:nvGraphicFramePr>
        <p:xfrm>
          <a:off x="2743200" y="4191120"/>
          <a:ext cx="1336680" cy="76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4191120"/>
                    <a:ext cx="133668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962520" y="4191120"/>
          <a:ext cx="82224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62520" y="4191120"/>
                    <a:ext cx="8222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81280" y="4724280"/>
          <a:ext cx="1193760" cy="768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81280" y="4724280"/>
                    <a:ext cx="1193760" cy="7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2438280" y="4724280"/>
          <a:ext cx="1193760" cy="766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38280" y="4724280"/>
                    <a:ext cx="119376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1371600" y="5410080"/>
            <a:ext cx="45720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863800" y="5486400"/>
          <a:ext cx="668520" cy="609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863800" y="5486400"/>
                    <a:ext cx="6685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3606840" y="5511960"/>
          <a:ext cx="1338120" cy="609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606840" y="5511960"/>
                    <a:ext cx="1338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4876920" y="5486400"/>
          <a:ext cx="1116000" cy="719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876920" y="5486400"/>
                    <a:ext cx="111600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533520" y="14479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Ax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+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 By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,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nd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are integ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648320" y="4191120"/>
          <a:ext cx="1079280" cy="609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648320" y="4191120"/>
                    <a:ext cx="10792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1295280" y="5996160"/>
          <a:ext cx="3618000" cy="8618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295280" y="5996160"/>
                    <a:ext cx="361800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3962520" y="3222720"/>
                <a:ext cx="76176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(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5973840" y="3146400"/>
                <a:ext cx="73188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)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 flipV="1">
            <a:off x="3962520" y="3276720"/>
            <a:ext cx="380880" cy="45720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572000" y="3733920"/>
            <a:ext cx="380880" cy="45720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648320" y="4724280"/>
          <a:ext cx="1090440" cy="6127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648320" y="4724280"/>
                    <a:ext cx="109044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1371600" y="4724280"/>
          <a:ext cx="1090440" cy="6127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371600" y="4724280"/>
                    <a:ext cx="109044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228600" y="838080"/>
            <a:ext cx="8686800" cy="1373760"/>
            <a:chOff x="228600" y="838080"/>
            <a:chExt cx="8686800" cy="1373760"/>
          </a:xfrm>
        </p:grpSpPr>
        <p:sp>
          <p:nvSpPr>
            <p:cNvPr id="79" name=""/>
            <p:cNvSpPr/>
            <p:nvPr/>
          </p:nvSpPr>
          <p:spPr>
            <a:xfrm>
              <a:off x="228600" y="838080"/>
              <a:ext cx="8686800" cy="137376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00"/>
                  </a:solidFill>
                  <a:latin typeface="Times New Roman"/>
                </a:rPr>
                <a:t>Standard Form of a Linear Equ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28600" y="1371600"/>
              <a:ext cx="868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0" y="22096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Write the equation in standard form with integer coeffici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828800" y="3352680"/>
          <a:ext cx="3890880" cy="75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352680"/>
                    <a:ext cx="389088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4789440" y="4138560"/>
          <a:ext cx="933480" cy="66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9440" y="4138560"/>
                    <a:ext cx="933480" cy="6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2556000" y="4113360"/>
          <a:ext cx="934920" cy="664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56000" y="4113360"/>
                    <a:ext cx="934920" cy="66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360440" y="4748040"/>
            <a:ext cx="45720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587680" y="4851360"/>
          <a:ext cx="712800" cy="609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87680" y="4851360"/>
                    <a:ext cx="7128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3352680" y="4876920"/>
          <a:ext cx="1338480" cy="609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52680" y="4876920"/>
                    <a:ext cx="13384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4622760" y="4927680"/>
          <a:ext cx="873000" cy="623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622760" y="4927680"/>
                    <a:ext cx="87300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533520" y="14479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Ax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+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 By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,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nd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are integ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447920" y="5486400"/>
          <a:ext cx="3441600" cy="861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447920" y="5486400"/>
                    <a:ext cx="344160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3722760" y="4062240"/>
          <a:ext cx="830160" cy="613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722760" y="4062240"/>
                    <a:ext cx="830160" cy="6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1488960" y="4062240"/>
          <a:ext cx="831960" cy="6130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488960" y="4062240"/>
                    <a:ext cx="831960" cy="6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28600" y="838080"/>
            <a:ext cx="8686800" cy="1373760"/>
            <a:chOff x="228600" y="838080"/>
            <a:chExt cx="8686800" cy="1373760"/>
          </a:xfrm>
        </p:grpSpPr>
        <p:sp>
          <p:nvSpPr>
            <p:cNvPr id="104" name=""/>
            <p:cNvSpPr/>
            <p:nvPr/>
          </p:nvSpPr>
          <p:spPr>
            <a:xfrm>
              <a:off x="228600" y="838080"/>
              <a:ext cx="8686800" cy="137376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00"/>
                  </a:solidFill>
                  <a:latin typeface="Times New Roman"/>
                </a:rPr>
                <a:t>Standard Form of a Linear Equ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8600" y="1371600"/>
              <a:ext cx="868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0" y="22096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Write the equation in standard form with integer coeffici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031840" y="2719440"/>
          <a:ext cx="4351320" cy="15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1840" y="2719440"/>
                    <a:ext cx="4351320" cy="15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522520" y="3124080"/>
                <a:ext cx="95724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(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10" name=""/>
          <p:cNvGraphicFramePr/>
          <p:nvPr/>
        </p:nvGraphicFramePr>
        <p:xfrm>
          <a:off x="2743200" y="4191120"/>
          <a:ext cx="1336680" cy="76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4191120"/>
                    <a:ext cx="133668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3962520" y="4191120"/>
          <a:ext cx="82224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62520" y="4191120"/>
                    <a:ext cx="8222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1752480" y="4724280"/>
          <a:ext cx="882720" cy="563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52480" y="4724280"/>
                    <a:ext cx="88272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4724280" y="4724280"/>
          <a:ext cx="882720" cy="563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24280" y="4724280"/>
                    <a:ext cx="88272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1371600" y="5410080"/>
            <a:ext cx="45720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133720" y="5486400"/>
          <a:ext cx="1514520" cy="762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133720" y="5486400"/>
                    <a:ext cx="15145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3632040" y="5511960"/>
          <a:ext cx="1285920" cy="609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632040" y="5511960"/>
                    <a:ext cx="12859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533520" y="14479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Ax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+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 By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,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nd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are integ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749840" y="4241880"/>
          <a:ext cx="874800" cy="507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749840" y="4241880"/>
                    <a:ext cx="87480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894120" y="3124080"/>
                <a:ext cx="95724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(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952960" y="3048120"/>
                <a:ext cx="95580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)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 flipV="1">
            <a:off x="6477120" y="3200400"/>
            <a:ext cx="380880" cy="45720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486400" y="3733920"/>
            <a:ext cx="380880" cy="45720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7621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Write the standard form of the equation of the line that passes through the given point and has the given slop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80880" y="2057400"/>
                <a:ext cx="465768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,4</m:t>
                        </m:r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914400" y="2987640"/>
                <a:ext cx="480060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34" name=""/>
          <p:cNvGraphicFramePr/>
          <p:nvPr/>
        </p:nvGraphicFramePr>
        <p:xfrm>
          <a:off x="1905120" y="3124080"/>
          <a:ext cx="512640" cy="6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124080"/>
                    <a:ext cx="5126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3048120" y="3124080"/>
          <a:ext cx="87300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3124080"/>
                    <a:ext cx="87300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5029200" y="3124080"/>
          <a:ext cx="411120" cy="609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29200" y="3124080"/>
                    <a:ext cx="41112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1089000" y="3809880"/>
          <a:ext cx="1903320" cy="762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89000" y="3809880"/>
                    <a:ext cx="19033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2895480" y="3809880"/>
          <a:ext cx="1184400" cy="609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95480" y="3809880"/>
                    <a:ext cx="118440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533520" y="4419720"/>
          <a:ext cx="1193760" cy="614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33520" y="4419720"/>
                    <a:ext cx="119376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2895480" y="4419720"/>
          <a:ext cx="1193760" cy="612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895480" y="4419720"/>
                    <a:ext cx="11937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1114560" y="5029200"/>
            <a:ext cx="368604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762120" y="5029200"/>
          <a:ext cx="1747800" cy="879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62120" y="5029200"/>
                    <a:ext cx="174780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2438280" y="5105520"/>
          <a:ext cx="978120" cy="609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438280" y="5105520"/>
                    <a:ext cx="978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3962520" y="3809880"/>
          <a:ext cx="876240" cy="6098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962520" y="3809880"/>
                    <a:ext cx="8762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1600200" y="4419720"/>
          <a:ext cx="882720" cy="6127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600200" y="4419720"/>
                    <a:ext cx="8827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3962520" y="4419720"/>
          <a:ext cx="882360" cy="6127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962520" y="4419720"/>
                    <a:ext cx="8823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7621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Write the standard form of the equation of the line that passes through the given point and has the given slop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762120" y="1981080"/>
                <a:ext cx="4657680" cy="91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,1</m:t>
                        </m:r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371600" y="2979720"/>
                <a:ext cx="51055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63" name=""/>
          <p:cNvGraphicFramePr/>
          <p:nvPr/>
        </p:nvGraphicFramePr>
        <p:xfrm>
          <a:off x="2468520" y="3124080"/>
          <a:ext cx="411120" cy="6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68520" y="3124080"/>
                    <a:ext cx="41112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3919680" y="3124080"/>
          <a:ext cx="46188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19680" y="3124080"/>
                    <a:ext cx="46188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5521320" y="3124080"/>
          <a:ext cx="822240" cy="609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21320" y="3124080"/>
                    <a:ext cx="8222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1782720" y="3809880"/>
          <a:ext cx="1800360" cy="762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82720" y="3809880"/>
                    <a:ext cx="180036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3718080" y="3809880"/>
          <a:ext cx="823680" cy="609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18080" y="3809880"/>
                    <a:ext cx="82368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3614760" y="4419720"/>
          <a:ext cx="933480" cy="664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614760" y="4419720"/>
                    <a:ext cx="933480" cy="66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1405080" y="4419720"/>
          <a:ext cx="933480" cy="663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405080" y="4419720"/>
                    <a:ext cx="93348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1757520" y="5029200"/>
            <a:ext cx="368604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938240" y="5029200"/>
          <a:ext cx="1131840" cy="7034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938240" y="5029200"/>
                    <a:ext cx="113184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3081240" y="5029200"/>
          <a:ext cx="2212920" cy="762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081240" y="5029200"/>
                    <a:ext cx="22129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5138640" y="3124080"/>
          <a:ext cx="660600" cy="6098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138640" y="3124080"/>
                    <a:ext cx="66060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484960" y="3151080"/>
          <a:ext cx="660240" cy="6098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484960" y="3151080"/>
                    <a:ext cx="6602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4605480" y="3809880"/>
          <a:ext cx="876240" cy="6098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605480" y="3809880"/>
                    <a:ext cx="8762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605480" y="4343400"/>
          <a:ext cx="880920" cy="6145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605480" y="4343400"/>
                    <a:ext cx="88092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2319480" y="4343400"/>
          <a:ext cx="880920" cy="6145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319480" y="4343400"/>
                    <a:ext cx="88092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1143000" y="5715000"/>
          <a:ext cx="3733920" cy="8618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1143000" y="5715000"/>
                    <a:ext cx="373392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7621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Write the standard form of the equation of the line that passes through the given point and has the given slop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571680" y="1967040"/>
                <a:ext cx="506700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1420920" y="2976480"/>
                <a:ext cx="504648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98" name=""/>
          <p:cNvGraphicFramePr/>
          <p:nvPr/>
        </p:nvGraphicFramePr>
        <p:xfrm>
          <a:off x="2373480" y="3097080"/>
          <a:ext cx="874440" cy="6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3480" y="3097080"/>
                    <a:ext cx="8744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3693960" y="3111480"/>
          <a:ext cx="77004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93960" y="3111480"/>
                    <a:ext cx="7700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5749920" y="3110040"/>
          <a:ext cx="46368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49920" y="3110040"/>
                    <a:ext cx="4636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1731960" y="3809880"/>
          <a:ext cx="1903320" cy="762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31960" y="3809880"/>
                    <a:ext cx="19033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3657600" y="3886200"/>
          <a:ext cx="876240" cy="507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57600" y="3886200"/>
                    <a:ext cx="8762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244520" y="4394160"/>
          <a:ext cx="882720" cy="563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244520" y="4394160"/>
                    <a:ext cx="88272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3581280" y="4419720"/>
          <a:ext cx="881280" cy="560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581280" y="4419720"/>
                    <a:ext cx="881280" cy="56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1757520" y="5029200"/>
            <a:ext cx="368604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1752480" y="5105520"/>
          <a:ext cx="1440000" cy="8204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752480" y="5105520"/>
                    <a:ext cx="1440000" cy="82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3200400" y="5105520"/>
          <a:ext cx="977760" cy="609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200400" y="5105520"/>
                    <a:ext cx="9777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1917720" y="3124080"/>
          <a:ext cx="660240" cy="6098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917720" y="3124080"/>
                    <a:ext cx="6602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2327400" y="3137040"/>
          <a:ext cx="660240" cy="6094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327400" y="3137040"/>
                    <a:ext cx="6602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4630680" y="3809880"/>
          <a:ext cx="825480" cy="6098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630680" y="3809880"/>
                    <a:ext cx="82548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2209680" y="4343400"/>
          <a:ext cx="881280" cy="6145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209680" y="4343400"/>
                    <a:ext cx="88128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4648320" y="4343400"/>
          <a:ext cx="880920" cy="6145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648320" y="4343400"/>
                    <a:ext cx="88092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000"/>
                            </p:stCondLst>
                            <p:childTnLst>
                              <p:par>
                                <p:cTn id="5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0" y="609480"/>
            <a:ext cx="9144000" cy="976320"/>
            <a:chOff x="0" y="609480"/>
            <a:chExt cx="9144000" cy="976320"/>
          </a:xfrm>
        </p:grpSpPr>
        <p:sp>
          <p:nvSpPr>
            <p:cNvPr id="229" name=""/>
            <p:cNvSpPr/>
            <p:nvPr/>
          </p:nvSpPr>
          <p:spPr>
            <a:xfrm>
              <a:off x="0" y="60948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Writing and Using a Linear Mode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04920" y="1066680"/>
              <a:ext cx="8839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0" y="9907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7. Copy and complete the table using the linear model in Example 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304920" y="5181480"/>
            <a:ext cx="8478720" cy="1447920"/>
            <a:chOff x="304920" y="5181480"/>
            <a:chExt cx="8478720" cy="1447920"/>
          </a:xfrm>
        </p:grpSpPr>
        <p:sp>
          <p:nvSpPr>
            <p:cNvPr id="233" name=""/>
            <p:cNvSpPr/>
            <p:nvPr/>
          </p:nvSpPr>
          <p:spPr>
            <a:xfrm>
              <a:off x="325440" y="5181480"/>
              <a:ext cx="8457840" cy="1447920"/>
            </a:xfrm>
            <a:prstGeom prst="rect">
              <a:avLst/>
            </a:prstGeom>
            <a:solidFill>
              <a:srgbClr val="ffffcc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04920" y="5868720"/>
              <a:ext cx="8478720" cy="24120"/>
            </a:xfrm>
            <a:custGeom>
              <a:avLst/>
              <a:gdLst/>
              <a:ahLst/>
              <a:rect l="l" t="t" r="r" b="b"/>
              <a:pathLst>
                <a:path w="5341" h="15">
                  <a:moveTo>
                    <a:pt x="0" y="15"/>
                  </a:moveTo>
                  <a:lnTo>
                    <a:pt x="5341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601800" y="5181480"/>
              <a:ext cx="0" cy="1447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54040" y="5257800"/>
              <a:ext cx="251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Peaches (lb), 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7720" y="5943600"/>
              <a:ext cx="29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Blueberries (lb), 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525840" y="5181480"/>
              <a:ext cx="5028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0         2         4          8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668840" y="5181480"/>
              <a:ext cx="0" cy="1447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964120" y="5181480"/>
              <a:ext cx="0" cy="1447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412040" y="5181480"/>
              <a:ext cx="0" cy="1447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42" name=""/>
          <p:cNvGraphicFramePr/>
          <p:nvPr/>
        </p:nvGraphicFramePr>
        <p:xfrm>
          <a:off x="2062080" y="1803240"/>
          <a:ext cx="3857760" cy="87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2080" y="1803240"/>
                    <a:ext cx="385776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4729320" y="2413080"/>
          <a:ext cx="1868400" cy="61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9320" y="2413080"/>
                    <a:ext cx="186840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1681200" y="2336760"/>
          <a:ext cx="1868400" cy="612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81200" y="2336760"/>
                    <a:ext cx="186840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2494080" y="2997360"/>
            <a:ext cx="36576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3852720" y="3051000"/>
          <a:ext cx="757440" cy="762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52720" y="3051000"/>
                    <a:ext cx="7574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4618080" y="3076560"/>
          <a:ext cx="2314440" cy="609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18080" y="3076560"/>
                    <a:ext cx="23144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6751800" y="3076560"/>
          <a:ext cx="1114200" cy="574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751800" y="3076560"/>
                    <a:ext cx="111420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3886200" y="3657600"/>
          <a:ext cx="519120" cy="612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886200" y="3657600"/>
                    <a:ext cx="5191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5867280" y="3657600"/>
          <a:ext cx="519120" cy="612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867280" y="3657600"/>
                    <a:ext cx="5191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"/>
          <p:cNvSpPr/>
          <p:nvPr/>
        </p:nvSpPr>
        <p:spPr>
          <a:xfrm>
            <a:off x="3751200" y="3657600"/>
            <a:ext cx="83844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762520" y="3657600"/>
            <a:ext cx="66384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7238880" y="3657600"/>
          <a:ext cx="519120" cy="612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238880" y="3657600"/>
                    <a:ext cx="5191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>
            <a:off x="7134120" y="3657600"/>
            <a:ext cx="66384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3733920" y="4419720"/>
          <a:ext cx="1166760" cy="7477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733920" y="4419720"/>
                    <a:ext cx="116676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4876920" y="4343400"/>
          <a:ext cx="2133360" cy="6015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876920" y="4343400"/>
                    <a:ext cx="213336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6934320" y="4343400"/>
          <a:ext cx="831600" cy="6174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934320" y="4343400"/>
                    <a:ext cx="831600" cy="61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500"/>
                            </p:stCondLst>
                            <p:childTnLst>
                              <p:par>
                                <p:cTn id="54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2000"/>
                            </p:stCondLst>
                            <p:childTnLst>
                              <p:par>
                                <p:cTn id="54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000"/>
                            </p:stCondLst>
                            <p:childTnLst>
                              <p:par>
                                <p:cTn id="5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500"/>
                            </p:stCondLst>
                            <p:childTnLst>
                              <p:par>
                                <p:cTn id="58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000"/>
                            </p:stCondLst>
                            <p:childTnLst>
                              <p:par>
                                <p:cTn id="5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1500"/>
                            </p:stCondLst>
                            <p:childTnLst>
                              <p:par>
                                <p:cTn id="59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2500"/>
                            </p:stCondLst>
                            <p:childTnLst>
                              <p:par>
                                <p:cTn id="60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0" y="609480"/>
            <a:ext cx="9144000" cy="976320"/>
            <a:chOff x="0" y="609480"/>
            <a:chExt cx="9144000" cy="976320"/>
          </a:xfrm>
        </p:grpSpPr>
        <p:sp>
          <p:nvSpPr>
            <p:cNvPr id="272" name=""/>
            <p:cNvSpPr/>
            <p:nvPr/>
          </p:nvSpPr>
          <p:spPr>
            <a:xfrm>
              <a:off x="0" y="60948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Writing and Using a Linear Mode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4920" y="1066680"/>
              <a:ext cx="8839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0" y="9907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7. Copy and complete the table using the linear model in Example 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304920" y="5181480"/>
            <a:ext cx="8478720" cy="1447920"/>
            <a:chOff x="304920" y="5181480"/>
            <a:chExt cx="8478720" cy="1447920"/>
          </a:xfrm>
        </p:grpSpPr>
        <p:sp>
          <p:nvSpPr>
            <p:cNvPr id="276" name=""/>
            <p:cNvSpPr/>
            <p:nvPr/>
          </p:nvSpPr>
          <p:spPr>
            <a:xfrm>
              <a:off x="325440" y="5181480"/>
              <a:ext cx="8457840" cy="1447920"/>
            </a:xfrm>
            <a:prstGeom prst="rect">
              <a:avLst/>
            </a:prstGeom>
            <a:solidFill>
              <a:srgbClr val="ffffcc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04920" y="5868720"/>
              <a:ext cx="8478720" cy="24120"/>
            </a:xfrm>
            <a:custGeom>
              <a:avLst/>
              <a:gdLst/>
              <a:ahLst/>
              <a:rect l="l" t="t" r="r" b="b"/>
              <a:pathLst>
                <a:path w="5341" h="15">
                  <a:moveTo>
                    <a:pt x="0" y="15"/>
                  </a:moveTo>
                  <a:lnTo>
                    <a:pt x="5341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601800" y="5181480"/>
              <a:ext cx="0" cy="1447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54040" y="5257800"/>
              <a:ext cx="251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Peaches (lb), 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77720" y="5943600"/>
              <a:ext cx="29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Blueberries (lb), 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525840" y="5181480"/>
              <a:ext cx="5028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0         2         4          8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668840" y="5181480"/>
              <a:ext cx="0" cy="1447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964120" y="5181480"/>
              <a:ext cx="0" cy="1447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412040" y="5181480"/>
              <a:ext cx="0" cy="1447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2986200" y="2481120"/>
                <a:ext cx="32130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7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86" name=""/>
          <p:cNvGraphicFramePr/>
          <p:nvPr/>
        </p:nvGraphicFramePr>
        <p:xfrm>
          <a:off x="6172200" y="2514600"/>
          <a:ext cx="1639800" cy="56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2514600"/>
                    <a:ext cx="163980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"/>
          <p:cNvGraphicFramePr/>
          <p:nvPr/>
        </p:nvGraphicFramePr>
        <p:xfrm>
          <a:off x="3873600" y="5943600"/>
          <a:ext cx="422280" cy="56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73600" y="5943600"/>
                    <a:ext cx="42228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2917800" y="3116160"/>
                <a:ext cx="323676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7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1" name=""/>
          <p:cNvGraphicFramePr/>
          <p:nvPr/>
        </p:nvGraphicFramePr>
        <p:xfrm>
          <a:off x="6095880" y="3124080"/>
          <a:ext cx="2578320" cy="563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5880" y="3124080"/>
                    <a:ext cx="257832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4765680" y="5943600"/>
          <a:ext cx="1076400" cy="563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65680" y="5943600"/>
                    <a:ext cx="107640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2984400" y="3733920"/>
                <a:ext cx="316224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7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6095880" y="3733920"/>
          <a:ext cx="2575080" cy="563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5880" y="3733920"/>
                    <a:ext cx="257508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6248520" y="5943600"/>
          <a:ext cx="982440" cy="563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248520" y="5943600"/>
                    <a:ext cx="98244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3025800" y="4346640"/>
                <a:ext cx="316872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7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8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01" name=""/>
          <p:cNvGraphicFramePr/>
          <p:nvPr/>
        </p:nvGraphicFramePr>
        <p:xfrm>
          <a:off x="6095880" y="4343400"/>
          <a:ext cx="1963800" cy="563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095880" y="4343400"/>
                    <a:ext cx="196380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7848720" y="5943600"/>
          <a:ext cx="420480" cy="5634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848720" y="5943600"/>
                    <a:ext cx="42048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2614680" y="1523880"/>
          <a:ext cx="3962160" cy="879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614680" y="1523880"/>
                    <a:ext cx="396216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0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5T23:09:27Z</dcterms:created>
  <dc:creator>Don Helms</dc:creator>
  <dc:description/>
  <dc:language>en-US</dc:language>
  <cp:lastModifiedBy>damon.skelton</cp:lastModifiedBy>
  <dcterms:modified xsi:type="dcterms:W3CDTF">2005-10-28T12:29:54Z</dcterms:modified>
  <cp:revision>188</cp:revision>
  <dc:subject/>
  <dc:title>No Slide Title</dc:title>
</cp:coreProperties>
</file>